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9FA25-F576-4085-9A0F-22A13EE15DB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mandalatv.net/itp/drivebys/css/" TargetMode="External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3423E-1DCE-44DE-AE75-E27F0EA9CFAC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Times New Roman"/>
                <a:ea typeface="MS Gothic"/>
                <a:hlinkClick r:id="rId1"/>
              </a:rPr>
              <a:t>http://www.mandalatv.net/itp/drivebys/css/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Wikipedia (Box Mod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0EC60-2DF6-4698-B2F1-8CAC9BAB966C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Imagem retirada de: http://www.flickr.com/photos/24413864@N05/4044264068/sizes/l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823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 e problema com container pai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righ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absolu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243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o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2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ixe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1C612-0AFD-4834-94C5-AA1ED0E8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A1F10-5321-45FB-82C7-D5561D87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8A93F-9B8C-49BE-B8AD-7448173A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E120F-DA2A-4D3E-9DD1-CAB8A6C2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D9C8D-8360-45F7-B2A5-AEF9A17F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B2549-16F6-4A33-BAD5-9FD6B14F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F393A-17EC-4884-90A3-519CD654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59993-5D6D-4E06-8445-554F8A15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34E04-3AEA-4CA9-97B4-125A7F9D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A1AA0-A683-4C9A-9407-998E36AC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96192-2291-463C-8BCD-3976A6AB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D5037-D3AB-4954-8813-7423DE37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7AE549-D784-4DE2-8738-BFCE0A0A9BA0}" type="slidenum">
              <a:rPr b="0" lang="pt-BR" sz="1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0/27/posicionamento-de-elementos-em-css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ableless.com.br/propriedade-position-do-css" TargetMode="External"/><Relationship Id="rId2" Type="http://schemas.openxmlformats.org/officeDocument/2006/relationships/hyperlink" Target="http://www.pt-br.html.net/tutorials/css/lesson13.asp" TargetMode="External"/><Relationship Id="rId3" Type="http://schemas.openxmlformats.org/officeDocument/2006/relationships/hyperlink" Target="http://www.pt-br.html.net/tutorials/css/lesson14.asp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de Elementos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03C67-97F7-4B58-956C-CF4104C68E4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Exemplos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MS Gothic"/>
              </a:rPr>
              <a:t>Exemplos em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7480" y="44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Lembre-se do Box model!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143080" y="928800"/>
            <a:ext cx="5888160" cy="5841720"/>
            <a:chOff x="2143080" y="928800"/>
            <a:chExt cx="5888160" cy="5841720"/>
          </a:xfrm>
        </p:grpSpPr>
        <p:graphicFrame>
          <p:nvGraphicFramePr>
            <p:cNvPr id="89" name=""/>
            <p:cNvGraphicFramePr/>
            <p:nvPr/>
          </p:nvGraphicFramePr>
          <p:xfrm>
            <a:off x="2143080" y="928800"/>
            <a:ext cx="5888160" cy="584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43080" y="928800"/>
                      <a:ext cx="5888160" cy="58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2143080" y="928800"/>
              <a:ext cx="5888160" cy="58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Box model para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elementos em bloco</a:t>
            </a:r>
            <a:br>
              <a:rPr sz="3200"/>
            </a:b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IE (6 e 7) x Resto do Mundo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340000" y="1484280"/>
            <a:ext cx="4324320" cy="5372280"/>
            <a:chOff x="2340000" y="1484280"/>
            <a:chExt cx="4324320" cy="537228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4324320" cy="537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340000" y="1484280"/>
              <a:ext cx="4324320" cy="537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Visualizar o Box Model com Firebug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Instalar o Firebug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http://www.getfirebug.com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ecla F12!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87D3A-3F48-41F5-A883-A7E0362EFB45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71720" y="5072040"/>
            <a:ext cx="7038720" cy="14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0"/>
            <a:ext cx="8085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2700360"/>
            <a:ext cx="504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Determina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 de um elemento em relação ao fluxo da página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961DBA-FAA6-4451-83AB-9B5D154D8DCC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00720" y="179280"/>
            <a:ext cx="3465360" cy="62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ne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C4BF7-BD70-49E3-89A3-312831B9D62A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2747880"/>
            <a:ext cx="4140360" cy="2652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319640" y="2700360"/>
            <a:ext cx="45622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60360" y="1079640"/>
            <a:ext cx="828036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AAC97-1DEF-409D-8097-2425DE1658D0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3060720"/>
            <a:ext cx="4680000" cy="2879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4230720" cy="17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7200" y="1619280"/>
            <a:ext cx="86328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9280" y="179280"/>
            <a:ext cx="88059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blema: o contâiner pai se adapta aos elementos colocados depois do elemento com o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1CB9F-5AF8-44AF-A9FE-5B75E0F8AB7C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3240000"/>
            <a:ext cx="88506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hecemos, no semestre passado diversos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seletores e propriedade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CS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mbém trabalhamos com propriedade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mens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(box model)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sso objetivo hoje será iniciar o trabalh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clear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trola o comportamento de um elemento em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 relação ao estado de 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s element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 possívei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both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659B8-3E42-464B-B40C-D58ACCEE3D11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lef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29055-4BD6-45B6-B7A5-F85B1AEC073B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7760" y="4114800"/>
            <a:ext cx="3162240" cy="2743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319640" y="4319640"/>
            <a:ext cx="459108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9840" y="900000"/>
            <a:ext cx="84801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C5661-4380-473D-BE88-4500CD566350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4162320"/>
            <a:ext cx="3029040" cy="2695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087800" y="4319640"/>
            <a:ext cx="455292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7200" y="873000"/>
            <a:ext cx="863280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both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BE758-CBBB-4A17-BA9D-D82D7B37DCF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9840" y="4278240"/>
            <a:ext cx="2990880" cy="2381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140360" y="4319640"/>
            <a:ext cx="461952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8120" y="1225440"/>
            <a:ext cx="865188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olvendo o problema da adaptação do contâiner pai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	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ar um espaçador (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pac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 com clea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740EB-393A-4BCB-BCF7-5A9DA1C032EA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0680" y="2700360"/>
            <a:ext cx="3919680" cy="4140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91120" y="2519280"/>
            <a:ext cx="480852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9280" y="1619280"/>
            <a:ext cx="8640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Tipos de posicionamento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0360" y="1600200"/>
            <a:ext cx="85057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Estátic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tatic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Relativ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tiv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Absolut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bsolut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Fix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ixed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8F813-5EC8-47E3-AC52-8C4B4DDF052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é err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itura obrigatória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estátic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static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drão, como os elementos são colocados po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adr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B4707-F45F-4602-82ED-7C1147C09291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60360" y="2879640"/>
            <a:ext cx="684072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relativ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relativ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ç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ao posicionamento estátic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50C5A-DC8B-4C26-ABA9-89D355153F8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319640" y="3959280"/>
            <a:ext cx="4680000" cy="2700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98360" y="4078440"/>
            <a:ext cx="358164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absolut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absolut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ao canto superior esquerdo ou canto superior direito do elemento pai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DBE95-7F4E-4D54-AD35-C27F6578054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9280" y="81000"/>
            <a:ext cx="4319640" cy="1898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16000" y="2160720"/>
            <a:ext cx="572436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fix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fixed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à janela do navegado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157D6-2FA6-4552-A95A-4BF835504DB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57FEE-5E1A-4420-9A9A-64F0F804A47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óximas aulas de CSS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214720"/>
            <a:ext cx="8553600" cy="38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CSS Posicionamento: layouts;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Menus, Botões e Forms.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EC046-6DAF-4459-9360-766AB88FF16A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ropriedade position do CS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tableless.com.br/propriedade-position-do-css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Flutu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http://www.pt-br.html.net/tutorials/css/lesson13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http://www.pt-br.html.net/tutorials/css/lesson14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SS – Guia de Bols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9BC16-5209-4C24-9E80-B3C3604975CA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4B3B9-9348-4A1A-B91E-DDD82331CF4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56F28-6D8D-4E3F-B2CF-F784D654992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tipo de posicionamento de um element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largura de um elemento, obrigatório nos elementos com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06-16T19:09:20Z</dcterms:modified>
  <cp:revision>852</cp:revision>
  <dc:subject/>
  <dc:title>Aula 01 - Curso Técnico</dc:title>
</cp:coreProperties>
</file>